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6122-33AB-4043-9294-C8991655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57E-1221-4788-959E-1482F28B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C51-9EF0-4262-9364-4D7FFCD5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383-07FF-4B9A-B247-1C386AE7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60B1-FE27-412D-96A9-BE588EC7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CEAD-9CA9-4D9E-8CA6-43A31752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8A36-8617-47B5-ABCB-131AA761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4C17-27EA-49FB-BCCC-019C462C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2BF0-EE20-4C38-A7C3-C7381635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7FC5-8582-4557-B7E8-7E9F11F1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8D2A-8AB4-4597-B798-0AB8CECE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8B9-2916-4D8C-BCBA-C0E765AF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8BD7-BBB9-471D-B663-84402A06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DD9F-9BB2-4F47-AB16-3260F12A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9ED9-5F4B-4BEF-A4A1-87754713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FAD8-8093-4D55-A89E-95ECC42D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9BE0-9773-497A-9E52-B22A7580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25884-14D4-4760-847D-C04136B8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EB8B5-A248-4954-AEA6-955A65D8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7DFA8-51C2-46D4-AB88-55C06F5F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CE72F-D47B-4E4C-AC10-6B6B6120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EC7A3-7673-4E62-8490-FE8E411B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682-3B47-4514-A395-2104E1DF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1B4C-B4F2-4690-8DC4-1B609895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85343-DC8E-4373-83C7-22FA6090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77D2-617C-4F2D-A9C0-98D5CE02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F36F5-7918-4CAD-BB5B-D140CF4C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30D5D-2A00-452F-943D-90664C70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DD592-B509-4E1E-B151-5F026F0A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8C673-ABB9-4246-A948-5AD62726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EBB62-EA85-4D22-8A3D-DD7EA63C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AB843-2285-4680-AB36-F8737C88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F8E6D-2F66-4A61-A374-3F4B7A9A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46E-55AE-4951-908B-0E257D85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4AE9C-5015-43C9-BE42-46746196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0F190-2E90-4562-9880-FD97FF04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17261-0D4C-43B6-978C-6221D8BE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07F2B-F4C6-4325-B214-E1E4256C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E43BC-A6FB-4ADA-8B2B-1B71062D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AAF5E-9F0E-4E8D-B4CF-7A78DA9A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411C4-4363-42BB-BFC7-3BF3DB48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8C8E0-75C8-46CB-830E-E5EE18FD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5A548-CFED-4F14-B545-1EE39DE6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F2D12-B846-4F81-8038-3594BF7C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193-2C8C-4D93-B307-595717B6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455FE-88F9-4580-B3D8-D15130D2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3E62F-8D8B-4780-B88B-BEC3100E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95208-5BFA-47DE-B2B6-766C5ECE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36E28-D9FA-44F2-887E-3B9C3EAB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4DD9C-1007-4600-8524-F810A42E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4B26F-42EC-4013-8D4F-4D91B399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8B53B-ACE5-47D5-A52B-D385A7BA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B036F-6F06-4CCF-9CF1-B43E4BCC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69505-F056-49DC-B456-135FE24D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EE5BD-FE22-428F-8561-17F496CA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C6B-A65B-4DFE-A8DC-805878D5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2C00D-07F0-46F2-B5D5-D77889D4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1B1D1-0D03-4F65-93BD-F501E536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73AA0-DACA-4AF1-A304-767358D5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054E7-9BF6-448C-A040-5509E629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3F4F3-1EB9-4294-B2D3-35E4DABF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055BA-B4F9-4A20-9411-E7E0959C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CA3BD-8C66-4D62-9618-FA992229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F230F-91ED-436F-AE6E-B33DAABE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B8233-A247-49FE-A7F2-CFF15CCD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7944C-1F9F-49B0-91E1-5A0E9C19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BA6-9ADE-4756-8042-4994510A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B6BB5-DA49-4B1F-9FED-2243A61B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EBD36-1120-4356-BF41-586A3652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6F56E-FEBE-4FAF-835B-E9F70E23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384-8EDA-4F76-BE59-AA0FAD1C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769-CA84-4F44-8295-85E26097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BD13-76AF-4033-9288-6A6D0FBE289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A577-9219-4293-BB5F-09D0233A267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52ED-8D22-49A2-A99D-D8EBD3AAD8D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3B75-A565-4FDF-BCCA-D35E949C39BF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8E1C-A8F4-4717-A091-3F2D844C4FD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9481-5E2B-441A-B702-7988D4B0BB3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4"/>
          <p:cNvSpPr txBox="1"/>
          <p:nvPr/>
        </p:nvSpPr>
        <p:spPr>
          <a:xfrm>
            <a:off x="2133720" y="914400"/>
            <a:ext cx="4876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изация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5"/>
          <p:cNvSpPr txBox="1"/>
          <p:nvPr/>
        </p:nvSpPr>
        <p:spPr>
          <a:xfrm>
            <a:off x="819000" y="2590920"/>
            <a:ext cx="7506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онно-предметной  среды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5791320" y="457200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студен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36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ан М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4"/>
          <p:cNvSpPr txBox="1"/>
          <p:nvPr/>
        </p:nvSpPr>
        <p:spPr>
          <a:xfrm>
            <a:off x="380880" y="380880"/>
            <a:ext cx="4953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сновной  вопрос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8" name="WordArt 5"/>
          <p:cNvSpPr txBox="1"/>
          <p:nvPr/>
        </p:nvSpPr>
        <p:spPr>
          <a:xfrm>
            <a:off x="385920" y="685800"/>
            <a:ext cx="76150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формационно- предметная 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WordArt 6"/>
          <p:cNvSpPr txBox="1"/>
          <p:nvPr/>
        </p:nvSpPr>
        <p:spPr>
          <a:xfrm>
            <a:off x="5715000" y="289548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еда -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WordArt 7"/>
          <p:cNvSpPr txBox="1"/>
          <p:nvPr/>
        </p:nvSpPr>
        <p:spPr>
          <a:xfrm>
            <a:off x="914400" y="411480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52f7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можность ил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52f7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1" name="WordArt 8"/>
          <p:cNvSpPr txBox="1"/>
          <p:nvPr/>
        </p:nvSpPr>
        <p:spPr>
          <a:xfrm>
            <a:off x="4038480" y="5181480"/>
            <a:ext cx="4648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52f74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обходимость ?</a:t>
            </a:r>
            <a:endParaRPr b="0" lang="en-US" sz="1800" spc="1" strike="noStrike">
              <a:ln w="0">
                <a:noFill/>
              </a:ln>
              <a:solidFill>
                <a:srgbClr val="852f74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ак влияет персональный компьютер на здоровье ребенка-дошкольника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омпьютерно - игровой комплекс -  условие эффективности обучения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ак влияют компьютерные игры на развитие математических представлений дошкольников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ак организовать информационно- предметную среду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WordArt 4"/>
          <p:cNvSpPr txBox="1"/>
          <p:nvPr/>
        </p:nvSpPr>
        <p:spPr>
          <a:xfrm>
            <a:off x="914400" y="533520"/>
            <a:ext cx="75438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блемные  вопрос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.Формирование интереса студентов к использованию информационных технологий в рамках информационно-предметной сред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. Развитие самостоятельности в учебном процессе новых информационных технологи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. Развитие исследовательских умений. Формулирование проблемы, поиск информации, представление результатов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WordArt 5"/>
          <p:cNvSpPr txBox="1"/>
          <p:nvPr/>
        </p:nvSpPr>
        <p:spPr>
          <a:xfrm>
            <a:off x="1828800" y="609480"/>
            <a:ext cx="5410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идактические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0880" y="20574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1. Привлекать педагогов к самостоятельному поиску и анализу технологий развития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2. Научить использовать в сво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й работе разнообразные источники информаци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3. Способствовать овладению педагогами научно-исследовательскими умения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4. Содействовать развитию научно-методического кругозора педагогов, побуждая к самообразованию и саморазвити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WordArt 5"/>
          <p:cNvSpPr txBox="1"/>
          <p:nvPr/>
        </p:nvSpPr>
        <p:spPr>
          <a:xfrm>
            <a:off x="685800" y="30492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тодические 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Формулировка и обсуждение тем творческих проект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Формирование микрогрупп для проведения исследован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ланирование работы в группа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иск информации по темам исследован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ая работа студентов над про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дготовка отчетов, выбор формы представления результатов исследова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щита творческих проект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WordArt 4"/>
          <p:cNvSpPr txBox="1"/>
          <p:nvPr/>
        </p:nvSpPr>
        <p:spPr>
          <a:xfrm>
            <a:off x="4724280" y="762120"/>
            <a:ext cx="4800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Этапы  раб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74"/>
          <p:cNvSpPr txBox="1"/>
          <p:nvPr/>
        </p:nvSpPr>
        <p:spPr>
          <a:xfrm>
            <a:off x="1447920" y="609480"/>
            <a:ext cx="6324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тактная  информац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1" name="Text Box 75"/>
          <p:cNvSpPr/>
          <p:nvPr/>
        </p:nvSpPr>
        <p:spPr>
          <a:xfrm>
            <a:off x="838080" y="2438280"/>
            <a:ext cx="7696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рес: Республика Коми, г.Сыктывкар, ул.Коммунистическая,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фон: 8-800-300-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5-19T13:04:0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